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7417-6D87-4FB4-9A78-0BED6EE9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5183-31B3-45DE-9726-5C303DBD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0ED0-3308-4613-9252-F9365D13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A574-77E2-4E53-A66E-54FC9955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2899-C259-4269-B27A-793A7765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1B91-71A7-43D9-9708-CF46DE6E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A71F-55B5-4A68-A970-85168FC1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61E4-5CC6-4D3D-8E27-A5A5F02F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5F11-8908-4049-A877-39D0F6DE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5F72-43BF-4947-88D8-FA106C92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BC91-0088-4D00-BB4D-728C359C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55E4-C2E6-416E-BF0B-47B03359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C7AD-AFF1-4742-BFA4-3DA6B31C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0124-121E-4D76-B104-7EEC0CCC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4F03-56FC-4212-8ABE-1DD9B975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03B9-EFB3-4829-8FA5-C7C1F5FC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4124-E802-4D01-B628-D37C8C80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2813-D12C-464A-A870-CC21EE39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FC5A-5050-43C6-A257-43E11639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4398-2F17-4CB8-9D2C-BBBE6E78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0E43-4A61-4E88-AC27-AB4784C1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164A-B2B2-42BD-8551-CD09DED7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F934-3E95-41C4-B116-4BF599F6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E112-DB88-48CC-9354-8B829C25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1C1F-7A1B-43EF-A299-888A83F4C8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6E76-96B0-46BC-A0C8-ED07BA2BF3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dfdef6"/>
                </a:solidFill>
                <a:latin typeface="Arial"/>
              </a:rPr>
              <a:t>APARIŢIA ŞI RĂSPÂNDIREA CREŞTINISMULUI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90720" y="3890520"/>
            <a:ext cx="678168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5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1"/>
          <a:srcRect l="0" t="53063" r="0" b="0"/>
          <a:stretch/>
        </p:blipFill>
        <p:spPr>
          <a:xfrm>
            <a:off x="5181480" y="3368520"/>
            <a:ext cx="1435320" cy="673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fica</cp:lastModifiedBy>
  <dcterms:modified xsi:type="dcterms:W3CDTF">2012-06-19T10:59:5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